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19C-8EED-453F-BD12-A8204F14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4A5-D4A8-4CE8-B970-6C3F3CD8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B92-A6E5-4F08-89D5-A07463E7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8F8-4C20-47A6-8684-D6D04F7C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630-9A3B-4D05-BB83-9226285F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F58-1E68-4526-AB6B-D8D3CEB7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8A9-AEC7-47CB-92EC-0D0845B8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0F1-0C47-4F56-845B-1D3ABE08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FD6-CA15-4BE6-A1BA-019F3703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821-7D93-48CE-9F86-6BDC4D90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FB7-F770-4675-9328-CB2DAB70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EA2-9727-4F01-9120-BE04B013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85C4-3C4E-42C6-888D-E27CCA87502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iz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ya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21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l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3-26T04:41:37Z</dcterms:modified>
  <cp:revision>3</cp:revision>
  <dc:subject/>
  <dc:title>عرض تقديمي من PowerPoint</dc:title>
</cp:coreProperties>
</file>